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5CFC-89CC-47F5-B905-6F0CCCCFF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E6AE-3AA4-43A7-83A0-B2FF17822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3E63-AE4A-40BC-836E-DC33B4067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3B16-4A42-4639-8101-FA02A3FEF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FCCC-B387-4C46-8C86-9FAEEA685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2B83-5735-4C31-AEAF-4D992FBC8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13EC-CD46-43CA-806A-B41A798AD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8BDB-FCA3-4541-B0F6-B4E306D78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72B8-A226-4A9C-A992-88327AD2F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4A38-C842-478A-A8D7-99663E5C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D6B5-A70D-4F59-920F-2DAE7A91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E917-EA72-4830-8A59-A48B0A98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872B0-2412-4BB5-8443-9109084672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hyperlink" Target="http://images.yandex.ru/yandsearch?rpt=simage&amp;ed=1&amp;text=&#1085;&#1072;&#1090;&#1102;&#1088;&#1084;&#1086;&#1088;&#1090;&#1099;%20&#1082;.&#1082;&#1086;&#1088;&#1086;&#1074;&#1080;&#1085;&#1072;&amp;p=16&amp;img_url=img13.nnm.ru/f/b/7/4/1/e24f110d04d1b5ae774e7a8ff92_prev.jpg" TargetMode="External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images.yandex.ru/yandsearch?ed=1&amp;text=&#1075;&#1088;&#1091;&#1087;&#1087;&#1086;&#1074;&#1099;&#1077;%20&#1080;%20&#1087;&#1072;&#1088;&#1072;&#1076;&#1085;&#1099;&#1077;%20&#1087;&#1086;&#1088;&#1090;&#1088;&#1077;&#1090;&#1099;%20&#1093;&#1091;&#1076;&#1086;&#1078;&#1085;&#1080;&#1082;&#1086;&#1074;&amp;p=45&amp;img_url=img1.liveinternet.ru/images/foto/b/0/840/2082840/f_10990365.jpg&amp;rpt=simage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hyperlink" Target="http://images.yandex.ru/yandsearch?ed=1&amp;text=&#1087;&#1077;&#1081;&#1079;&#1072;&#1078;%20&#1089;&#1072;&#1074;&#1088;&#1072;&#1089;&#1086;&#1074;&amp;p=74&amp;img_url=img1.liveinternet.ru/images/attach/c/1/61/139/61139667_s9.JPG&amp;rpt=simage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images.yandex.ru/yandsearch?text=&#1087;&#1077;&#1081;&#1079;&#1072;&#1078;&#1080;%20&#1093;&#1091;&#1076;&#1086;&#1078;&#1085;&#1080;&#1082;&#1086;&#1074;&amp;p=96&amp;img_url=socvirus.com.ua/wp-content/uploads/2010/01/66.jpg&amp;rpt=simage" TargetMode="External"/><Relationship Id="rId6" Type="http://schemas.openxmlformats.org/officeDocument/2006/relationships/image" Target="../media/image13.jpeg"/><Relationship Id="rId7" Type="http://schemas.openxmlformats.org/officeDocument/2006/relationships/hyperlink" Target="http://images.yandex.ru/yandsearch?ed=1&amp;text=&#1087;&#1077;&#1081;&#1079;&#1072;&#1078;%20&#1074;%20&#1075;&#1088;&#1072;&#1092;&#1080;&#1082;&#1077;&amp;p=70&amp;img_url=www.avalon.ru/_images/Gallery/HigherEducation/Design/Drawing/2008/landscape/tolstaja-olga.jpg&amp;rpt=simage" TargetMode="External"/><Relationship Id="rId8" Type="http://schemas.openxmlformats.org/officeDocument/2006/relationships/image" Target="../media/image14.jpeg"/><Relationship Id="rId9" Type="http://schemas.openxmlformats.org/officeDocument/2006/relationships/hyperlink" Target="http://images.yandex.ru/yandsearch?text=&#1087;&#1077;&#1081;&#1079;&#1072;&#1078;%20&#1072;&#1081;&#1074;&#1072;&#1079;&#1086;&#1074;&#1089;&#1082;&#1086;&#1075;&#1086;%20&#1076;&#1077;&#1074;&#1103;&#1090;&#1099;&#1081;%20&#1074;&#1072;&#1083;&amp;rpt=simage&amp;img_url=www.spbgu.ru/forums/uploads/post-143-1162655997.jpg&amp;p=4" TargetMode="External"/><Relationship Id="rId10" Type="http://schemas.openxmlformats.org/officeDocument/2006/relationships/image" Target="../media/image15.jpe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hyperlink" Target="http://images.yandex.ru/yandsearch?rpt=simage&amp;img_url=img1.liveinternet.ru/images/attach/b/3/23/220/23220003_Podsolnuhi.jpg&amp;ed=1&amp;text=&#1085;&#1072;&#1090;&#1102;&#1088;&#1084;&#1086;&#1088;&#1090;&#1099;%20&#1074;%20&#1087;&#1088;&#1086;&#1080;&#1079;&#1074;&#1077;&#1076;&#1077;&#1085;&#1080;&#1103;&#1093;%20&#1093;&#1091;&#1076;&#1086;&#1078;&#1085;&#1080;&#1082;&#1086;&#1074;&amp;p=3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images.yandex.ru/yandsearch?text=&#1083;&#1077;&#1086;&#1085;&#1072;&#1088;&#1076;&#1086;%20&#1076;&#1072;%20&#1074;&#1080;&#1085;&#1095;&#1080;%20&#1082;&#1072;&#1088;&#1090;&#1080;&#1085;&#1099;&amp;rpt=simage&amp;img_url=900igr.net/datai/iskusstvo/Rassmatrivaem-kartiny.files/0005-004-Mona-Liza-Dzhokonda-Leonardo-Da-Vinchi.jpg&amp;p=0" TargetMode="External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66"/>
                </a:solidFill>
                <a:latin typeface="Monotype Corsiva"/>
              </a:rPr>
              <a:t>В гостях  у  жанро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360" y="3284640"/>
            <a:ext cx="8136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Контрольные вопро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Вопрос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акие из этих изображений относятся к 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жанру натюрмор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68360" y="1268280"/>
          <a:ext cx="8137440" cy="4465800"/>
        </p:xfrm>
        <a:graphic>
          <a:graphicData uri="http://schemas.openxmlformats.org/drawingml/2006/table">
            <a:tbl>
              <a:tblPr/>
              <a:tblGrid>
                <a:gridCol w="2736720"/>
                <a:gridCol w="2735280"/>
                <a:gridCol w="2665440"/>
              </a:tblGrid>
              <a:tr h="23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6" name="Picture 23" descr="mashkov_naturmort"/>
          <p:cNvPicPr/>
          <p:nvPr/>
        </p:nvPicPr>
        <p:blipFill>
          <a:blip r:embed="rId1"/>
          <a:stretch/>
        </p:blipFill>
        <p:spPr>
          <a:xfrm>
            <a:off x="571680" y="1357200"/>
            <a:ext cx="2500200" cy="18576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47" name="Picture 25" descr="Aivazovsky-Чер м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3348000" y="1357200"/>
            <a:ext cx="2448000" cy="18576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48" name="Picture 29" descr="Ермак 3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571680" y="3716280"/>
            <a:ext cx="2500200" cy="163692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49" name="Picture 33" descr="пейзаж 4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6072120" y="3716280"/>
            <a:ext cx="2428920" cy="16416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50" name="Text Box 69"/>
          <p:cNvSpPr/>
          <p:nvPr/>
        </p:nvSpPr>
        <p:spPr>
          <a:xfrm>
            <a:off x="1187280" y="3213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0"/>
          <p:cNvSpPr/>
          <p:nvPr/>
        </p:nvSpPr>
        <p:spPr>
          <a:xfrm>
            <a:off x="3995640" y="3213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1"/>
          <p:cNvSpPr/>
          <p:nvPr/>
        </p:nvSpPr>
        <p:spPr>
          <a:xfrm>
            <a:off x="6877080" y="321300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2"/>
          <p:cNvSpPr/>
          <p:nvPr/>
        </p:nvSpPr>
        <p:spPr>
          <a:xfrm>
            <a:off x="1403280" y="53737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3"/>
          <p:cNvSpPr/>
          <p:nvPr/>
        </p:nvSpPr>
        <p:spPr>
          <a:xfrm>
            <a:off x="3995640" y="5373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4"/>
          <p:cNvSpPr/>
          <p:nvPr/>
        </p:nvSpPr>
        <p:spPr>
          <a:xfrm>
            <a:off x="6732720" y="536256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1" descr="Сарьян 2"/>
          <p:cNvPicPr/>
          <p:nvPr/>
        </p:nvPicPr>
        <p:blipFill>
          <a:blip r:embed="rId5">
            <a:lum contrast="6000"/>
          </a:blip>
          <a:stretch/>
        </p:blipFill>
        <p:spPr>
          <a:xfrm>
            <a:off x="6000840" y="1357200"/>
            <a:ext cx="2500200" cy="18576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57" name="Рисунок 16" descr="http://im4-tub.yandex.net/i?id=21325654-19-24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357720" y="3714840"/>
            <a:ext cx="25002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Вопрос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07172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Определите разновидности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портр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000160" y="1857240"/>
          <a:ext cx="5143680" cy="3078360"/>
        </p:xfrm>
        <a:graphic>
          <a:graphicData uri="http://schemas.openxmlformats.org/drawingml/2006/table">
            <a:tbl>
              <a:tblPr/>
              <a:tblGrid>
                <a:gridCol w="2571840"/>
                <a:gridCol w="2571840"/>
              </a:tblGrid>
              <a:tr h="309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Text Box 18"/>
          <p:cNvSpPr/>
          <p:nvPr/>
        </p:nvSpPr>
        <p:spPr>
          <a:xfrm>
            <a:off x="4572000" y="5589720"/>
            <a:ext cx="237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i-tmb-0x" descr="http://im7-tub.yandex.net/i?id=144698305-20-24"/>
          <p:cNvPicPr/>
          <p:nvPr/>
        </p:nvPicPr>
        <p:blipFill>
          <a:blip r:embed="rId1"/>
          <a:stretch/>
        </p:blipFill>
        <p:spPr>
          <a:xfrm>
            <a:off x="2428920" y="1928880"/>
            <a:ext cx="1714320" cy="24289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8" descr="http://im8-tub.yandex.net/i?id=217216773-11-2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929120" y="1928880"/>
            <a:ext cx="18576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Вопрос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акие из представленных здесь пейзажей называются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сельски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68360" y="1143000"/>
          <a:ext cx="8137440" cy="5275440"/>
        </p:xfrm>
        <a:graphic>
          <a:graphicData uri="http://schemas.openxmlformats.org/drawingml/2006/table">
            <a:tbl>
              <a:tblPr/>
              <a:tblGrid>
                <a:gridCol w="2736720"/>
                <a:gridCol w="2735280"/>
                <a:gridCol w="2665440"/>
              </a:tblGrid>
              <a:tr h="264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Text Box 25"/>
          <p:cNvSpPr/>
          <p:nvPr/>
        </p:nvSpPr>
        <p:spPr>
          <a:xfrm>
            <a:off x="785880" y="335772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6"/>
          <p:cNvSpPr/>
          <p:nvPr/>
        </p:nvSpPr>
        <p:spPr>
          <a:xfrm>
            <a:off x="3286080" y="335772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7"/>
          <p:cNvSpPr/>
          <p:nvPr/>
        </p:nvSpPr>
        <p:spPr>
          <a:xfrm>
            <a:off x="6072120" y="335772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8"/>
          <p:cNvSpPr/>
          <p:nvPr/>
        </p:nvSpPr>
        <p:spPr>
          <a:xfrm>
            <a:off x="1000080" y="60008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9"/>
          <p:cNvSpPr/>
          <p:nvPr/>
        </p:nvSpPr>
        <p:spPr>
          <a:xfrm>
            <a:off x="3357720" y="600084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0"/>
          <p:cNvSpPr/>
          <p:nvPr/>
        </p:nvSpPr>
        <p:spPr>
          <a:xfrm>
            <a:off x="6286680" y="600084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7" descr="Грачи прилетели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143000" y="3929040"/>
            <a:ext cx="1527120" cy="200016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74" name="Picture 46" descr="Шишкин рожь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3286080" y="1214280"/>
            <a:ext cx="2571840" cy="178596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75" name="Рисунок 24" descr="http://im2-tub.yandex.net/i?id=233066117-19-2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86080" y="3857760"/>
            <a:ext cx="2571840" cy="171432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25" descr="http://im6-tub.yandex.net/i?id=47532160-14-2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72120" y="1214280"/>
            <a:ext cx="2357640" cy="178596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26" descr="http://im2-tub.yandex.net/i?id=46623433-13-24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42960" y="1214280"/>
            <a:ext cx="2428920" cy="18576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27" descr="http://im0-tub.yandex.net/i?id=214837992-13-24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072120" y="3857760"/>
            <a:ext cx="235764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Вопрос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Определите названия представленных здесь произве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68360" y="1143000"/>
          <a:ext cx="8137440" cy="5275440"/>
        </p:xfrm>
        <a:graphic>
          <a:graphicData uri="http://schemas.openxmlformats.org/drawingml/2006/table">
            <a:tbl>
              <a:tblPr/>
              <a:tblGrid>
                <a:gridCol w="2736720"/>
                <a:gridCol w="2735280"/>
                <a:gridCol w="2665440"/>
              </a:tblGrid>
              <a:tr h="264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Text Box 25"/>
          <p:cNvSpPr/>
          <p:nvPr/>
        </p:nvSpPr>
        <p:spPr>
          <a:xfrm>
            <a:off x="785880" y="321480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.И.Шишк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6"/>
          <p:cNvSpPr/>
          <p:nvPr/>
        </p:nvSpPr>
        <p:spPr>
          <a:xfrm>
            <a:off x="3286080" y="321480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онардо да Вин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7"/>
          <p:cNvSpPr/>
          <p:nvPr/>
        </p:nvSpPr>
        <p:spPr>
          <a:xfrm>
            <a:off x="6072120" y="321480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.К.Айваз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8"/>
          <p:cNvSpPr/>
          <p:nvPr/>
        </p:nvSpPr>
        <p:spPr>
          <a:xfrm>
            <a:off x="1000080" y="60008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н Г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9"/>
          <p:cNvSpPr/>
          <p:nvPr/>
        </p:nvSpPr>
        <p:spPr>
          <a:xfrm>
            <a:off x="3357720" y="600084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ба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0"/>
          <p:cNvSpPr/>
          <p:nvPr/>
        </p:nvSpPr>
        <p:spPr>
          <a:xfrm>
            <a:off x="6286680" y="600084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Се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3" descr="Шишкин утро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42960" y="1214280"/>
            <a:ext cx="2427120" cy="167976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89" name="Picture 25" descr="Айвазовский Дев вал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6072120" y="1214280"/>
            <a:ext cx="2428920" cy="16718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90" name="Рисунок 19" descr="http://im7-tub.yandex.net/i?id=75802727-11-2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00080" y="3857760"/>
            <a:ext cx="1785960" cy="207144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20" descr="http://im7-tub.yandex.net/i?id=96428151-02-2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786120" y="1214280"/>
            <a:ext cx="1643040" cy="192888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21" descr="http://im4-tub.yandex.net/i?id=132254116-22-24"/>
          <p:cNvPicPr/>
          <p:nvPr/>
        </p:nvPicPr>
        <p:blipFill>
          <a:blip r:embed="rId7"/>
          <a:stretch/>
        </p:blipFill>
        <p:spPr>
          <a:xfrm>
            <a:off x="6500880" y="3857760"/>
            <a:ext cx="1500120" cy="20001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22" descr="http://im6-tub.yandex.net/i?id=66595025-06-24"/>
          <p:cNvPicPr/>
          <p:nvPr/>
        </p:nvPicPr>
        <p:blipFill>
          <a:blip r:embed="rId8"/>
          <a:stretch/>
        </p:blipFill>
        <p:spPr>
          <a:xfrm>
            <a:off x="3786120" y="3857760"/>
            <a:ext cx="157176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0T20:18:26Z</dcterms:created>
  <dc:creator>Ловушкин</dc:creator>
  <dc:description/>
  <dc:language>en-US</dc:language>
  <cp:lastModifiedBy>Зуля</cp:lastModifiedBy>
  <dcterms:modified xsi:type="dcterms:W3CDTF">2011-03-12T18:02:46Z</dcterms:modified>
  <cp:revision>34</cp:revision>
  <dc:subject/>
  <dc:title>В гостях у жанров</dc:title>
</cp:coreProperties>
</file>